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CCE-DB85-43E7-8265-4A1A11F6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734D-BDDC-4834-9037-0A12B423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99FF-3C0B-4596-9249-8B0CE248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C12-0705-489F-8804-76167590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5325-3CDD-4838-B74F-254CE31A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8088-E31B-42FD-B3A3-85937AA3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3644-75EE-4FC4-954E-4B3ED8A4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3163-24D5-412E-ADDE-5FAC193E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4154-838E-402E-ACB2-9ACAC8F5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B4FA-F4F6-44EE-ABE6-DCC3E230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FB5C-995E-4E54-8F78-F8B9C3AF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A1A8-769A-4713-B1B7-A82CF492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40E2-A4DD-4E57-87DE-EACE852F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8B69-3E0F-42A5-AAE8-ED6B790E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069B-5C72-408F-BFF7-C01779F1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32AC-3DD8-4F93-9CF2-40DAE4F9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AB93-3FCC-4004-AB86-0A99FE9F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195-8DD8-4377-B885-B39C4391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FC1-0BF3-4354-89CB-EB977A06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1D9-6828-4215-9777-11C60E78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926-796B-42BE-9935-B8BE8CE4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D39A-B786-45FC-BE78-E581346C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F03-2241-487E-8B21-07E15810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CC5-ADD9-46D2-8C2D-B3080B84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CFF4-3766-4E96-A539-62338C9BB132}" type="slidenum">
              <a:rPr b="0" lang="en-US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A8F2-1515-426C-BFC2-A8E073E30059}" type="slidenum">
              <a:rPr b="0" lang="en-US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The NEP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By Sean and Austin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What is it?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The NEP stands for New Economic Policy 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Was Lenin's last economic decision before he died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Was made in the 10th congress of the ‘All Russian Communist Party’ in March 1921 as a means of recovering from a ruined economy 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Why did they form it?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The previous policy (war communism) failed miserably 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Lenin thought they did not meet meet the economic criteria necessary to be socialist 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In his own words he said “We are not civilized  enough”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What were the policies?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Private ownership is returned to farmers 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mployment is brought back for farmers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Large factories are under state control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Allowed foreign trade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Allowed peasants to keep part of their surplus after paying a small tax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Allowed peasants land tenure (land tenure is the right to own land)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Allowed the peasants to sell their surplus for profit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What were the effects?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Initially there was a famine due to increased food prices which was a setback for the recovery 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ventually production of all goods were brought to above pre-revolution standards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conomy was brought back up after 1928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Also in 1928 the average working hours went from 9.9 hours to 7.8 hours a day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By 1928 the number of women workers increased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The factories began to sell their products at higher products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What were the effects? (cont.)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Because of this the peasants had to produce more of their product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The peasants began to withhold their surplus to sell for better prices to NEP-men (middle-class and traders)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The NEP men would sell them at even higher prices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Unemployment became common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What were the effects?(cont.)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There was a imbalance between the large industry (state owned) and agriculture (this was called a scissor effect)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The government fixed prices to stop the scissor effect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The gap between the classes narrowed- more equality and the richer farmers were called Kulaks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There was a split between the Bolsheviks, the Left Wing (Trotsky) who wanted the NEP gone and the Right Wing (Bukharin) who wanted the NEP there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What were the effects?(cont.)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There was a imbalance between the large industry (state owned) and agriculture (this was called a scissor effect)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The government fixed prices to stop the scissor effec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The gap between the classes narrowed- more equality and the richer farmers were called Kulaks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There was a split between the Bolsheviks, the Left Wing (Trotsky) who wanted the NEP gone and the Right Wing (Bukharin) who wanted the NEP there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The End of NEP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When Lenin died, Stalin filled the gap of power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Here he put an end to the NEP in January 1929 because ‘the capitalists will kill them’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562720" y="4172040"/>
            <a:ext cx="2743200" cy="2685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4876920"/>
            <a:ext cx="4648320" cy="1600200"/>
          </a:xfrm>
          <a:prstGeom prst="wedgeEllipseCallout">
            <a:avLst>
              <a:gd name="adj1" fmla="val 88967"/>
              <a:gd name="adj2" fmla="val -13291"/>
            </a:avLst>
          </a:prstGeom>
          <a:solidFill>
            <a:srgbClr val="00408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Either we do it, or they crush us”</a:t>
            </a: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Joseph Stalin, 1928</a:t>
            </a: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stin</cp:lastModifiedBy>
  <dcterms:modified xsi:type="dcterms:W3CDTF">2007-11-07T03:16:27Z</dcterms:modified>
  <cp:revision>2</cp:revision>
  <dc:subject/>
  <dc:title>The NEP</dc:title>
</cp:coreProperties>
</file>